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004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8720" y="526680"/>
            <a:ext cx="3508560" cy="263196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667560"/>
            <a:ext cx="403236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0040" y="666756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EBBD-B494-457E-8037-C9045FAB3B7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98720" y="527040"/>
            <a:ext cx="3508560" cy="2631960"/>
          </a:xfrm>
          <a:prstGeom prst="rect">
            <a:avLst/>
          </a:prstGeom>
          <a:ln w="0">
            <a:noFill/>
          </a:ln>
        </p:spPr>
      </p:sp>
      <p:sp>
        <p:nvSpPr>
          <p:cNvPr id="11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9"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9DDB-944F-4482-88DA-115B0772CC7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2898720" y="527040"/>
            <a:ext cx="3508560" cy="2631960"/>
          </a:xfrm>
          <a:prstGeom prst="rect">
            <a:avLst/>
          </a:prstGeom>
          <a:ln w="0">
            <a:noFill/>
          </a:ln>
        </p:spPr>
      </p:sp>
      <p:sp>
        <p:nvSpPr>
          <p:cNvPr id="121"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2"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FA27-A4D9-46BB-990F-9F7948B6AE4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98720" y="527040"/>
            <a:ext cx="3508560" cy="2631960"/>
          </a:xfrm>
          <a:prstGeom prst="rect">
            <a:avLst/>
          </a:prstGeom>
          <a:ln w="0">
            <a:noFill/>
          </a:ln>
        </p:spPr>
      </p:sp>
      <p:sp>
        <p:nvSpPr>
          <p:cNvPr id="12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5"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71D2-D653-4E9D-B919-92A393AA88F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98720" y="527040"/>
            <a:ext cx="3508560" cy="2631960"/>
          </a:xfrm>
          <a:prstGeom prst="rect">
            <a:avLst/>
          </a:prstGeom>
          <a:ln w="0">
            <a:noFill/>
          </a:ln>
        </p:spPr>
      </p:sp>
      <p:sp>
        <p:nvSpPr>
          <p:cNvPr id="12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23C0-7A10-464D-8029-7DE988E7B6E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98720" y="527040"/>
            <a:ext cx="3508560" cy="2631960"/>
          </a:xfrm>
          <a:prstGeom prst="rect">
            <a:avLst/>
          </a:prstGeom>
          <a:ln w="0">
            <a:noFill/>
          </a:ln>
        </p:spPr>
      </p:sp>
      <p:sp>
        <p:nvSpPr>
          <p:cNvPr id="13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68F1-DA9E-406A-ACD5-FBC13D9564B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8720" y="527040"/>
            <a:ext cx="3508560" cy="2631960"/>
          </a:xfrm>
          <a:prstGeom prst="rect">
            <a:avLst/>
          </a:prstGeom>
          <a:ln w="0">
            <a:noFill/>
          </a:ln>
        </p:spPr>
      </p:sp>
      <p:sp>
        <p:nvSpPr>
          <p:cNvPr id="13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D9AA-9EEA-4A1D-8737-6200E900E85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98720" y="527040"/>
            <a:ext cx="3508560" cy="2631960"/>
          </a:xfrm>
          <a:prstGeom prst="rect">
            <a:avLst/>
          </a:prstGeom>
          <a:ln w="0">
            <a:noFill/>
          </a:ln>
        </p:spPr>
      </p:sp>
      <p:sp>
        <p:nvSpPr>
          <p:cNvPr id="13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4101-CD97-4D5B-AA80-0D94E978B0B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898720" y="527040"/>
            <a:ext cx="3508560" cy="2631960"/>
          </a:xfrm>
          <a:prstGeom prst="rect">
            <a:avLst/>
          </a:prstGeom>
          <a:ln w="0">
            <a:noFill/>
          </a:ln>
        </p:spPr>
      </p:sp>
      <p:sp>
        <p:nvSpPr>
          <p:cNvPr id="9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9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4D48-AA93-40E7-9468-C1C68DEA2A4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98720" y="527040"/>
            <a:ext cx="3508560" cy="2631960"/>
          </a:xfrm>
          <a:prstGeom prst="rect">
            <a:avLst/>
          </a:prstGeom>
          <a:ln w="0">
            <a:noFill/>
          </a:ln>
        </p:spPr>
      </p:sp>
      <p:sp>
        <p:nvSpPr>
          <p:cNvPr id="10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F043-64A6-495D-8950-86AA9B93DF9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898720" y="527040"/>
            <a:ext cx="3508560" cy="2631960"/>
          </a:xfrm>
          <a:prstGeom prst="rect">
            <a:avLst/>
          </a:prstGeom>
          <a:ln w="0">
            <a:noFill/>
          </a:ln>
        </p:spPr>
      </p:sp>
      <p:sp>
        <p:nvSpPr>
          <p:cNvPr id="10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C581-DE7D-4B2E-AE54-709D606D27B6}"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8720" y="527040"/>
            <a:ext cx="3508560" cy="2631960"/>
          </a:xfrm>
          <a:prstGeom prst="rect">
            <a:avLst/>
          </a:prstGeom>
          <a:ln w="0">
            <a:noFill/>
          </a:ln>
        </p:spPr>
      </p:sp>
      <p:sp>
        <p:nvSpPr>
          <p:cNvPr id="10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6AD8-31D5-408B-B432-A2E9FAC533D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98720" y="527040"/>
            <a:ext cx="3508560" cy="2631960"/>
          </a:xfrm>
          <a:prstGeom prst="rect">
            <a:avLst/>
          </a:prstGeom>
          <a:ln w="0">
            <a:noFill/>
          </a:ln>
        </p:spPr>
      </p:sp>
      <p:sp>
        <p:nvSpPr>
          <p:cNvPr id="109"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0"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AFB7-9561-4D1E-B938-040F7589E26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98720" y="527040"/>
            <a:ext cx="3508560" cy="2631960"/>
          </a:xfrm>
          <a:prstGeom prst="rect">
            <a:avLst/>
          </a:prstGeom>
          <a:ln w="0">
            <a:noFill/>
          </a:ln>
        </p:spPr>
      </p:sp>
      <p:sp>
        <p:nvSpPr>
          <p:cNvPr id="11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3"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C712-240A-4D0C-B179-CEDBAFFD544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898720" y="527040"/>
            <a:ext cx="3508560" cy="2631960"/>
          </a:xfrm>
          <a:prstGeom prst="rect">
            <a:avLst/>
          </a:prstGeom>
          <a:ln w="0">
            <a:noFill/>
          </a:ln>
        </p:spPr>
      </p:sp>
      <p:sp>
        <p:nvSpPr>
          <p:cNvPr id="115"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6"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1AE1-FB9B-4D2B-92DD-7F3B8B06F011}"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BA862-3D51-46E5-9BA0-7EB843255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8501F-51BF-4170-B9DF-A09BCD03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51FAB-EA2E-446C-BE82-A24F449B3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6CCAF-C768-4364-99BC-E7D193640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3A956-3FA7-4D7A-93C9-A69AAC96A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C6AAE-9C8B-452B-9A50-9C49759F7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9DF93-4C32-4174-83D8-2D9C54E67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62D1-881B-42D1-AD75-F08BEE9F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26AE7-BBAF-41AB-86D4-9EA3452E9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12BF7-AB88-47FB-8D6F-7E2EA3E5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5437-0BE9-49A0-8175-346E379CB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3CAD-0614-4C9E-AD26-49BD423EB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D61A-06C2-4D99-80C8-B0D34D04BE4A}"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Documents and Settings\eguay\Bureau\art-nouveau\images\Low_rez\Générique.jpg"/>
          <p:cNvPicPr/>
          <p:nvPr/>
        </p:nvPicPr>
        <p:blipFill>
          <a:blip r:embed="rId1"/>
          <a:stretch/>
        </p:blipFill>
        <p:spPr>
          <a:xfrm>
            <a:off x="1116000" y="260280"/>
            <a:ext cx="6502320" cy="650232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SDCCS and its commitment towards newcomers</a:t>
            </a:r>
            <a:endParaRPr b="0" lang="en-US" sz="4400" spc="-1" strike="noStrike">
              <a:solidFill>
                <a:srgbClr val="000000"/>
              </a:solidFill>
              <a:latin typeface="Arial"/>
            </a:endParaRPr>
          </a:p>
        </p:txBody>
      </p:sp>
      <p:pic>
        <p:nvPicPr>
          <p:cNvPr id="51" name="Picture 6" descr="C:\Documents and Settings\eguay\Bureau\base.jpg"/>
          <p:cNvPicPr/>
          <p:nvPr/>
        </p:nvPicPr>
        <p:blipFill>
          <a:blip r:embed="rId2"/>
          <a:stretch/>
        </p:blipFill>
        <p:spPr>
          <a:xfrm>
            <a:off x="0" y="5762520"/>
            <a:ext cx="9163080" cy="10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7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ÉÉ (Swis workers in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models : In partnership with community organizations and as a direct administrato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s direct administrator, sub-partnership agreements have been put in place.  </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81" name="PlaceHolder 2"/>
          <p:cNvSpPr>
            <a:spLocks noGrp="1"/>
          </p:cNvSpPr>
          <p:nvPr>
            <p:ph/>
          </p:nvPr>
        </p:nvSpPr>
        <p:spPr>
          <a:xfrm>
            <a:off x="457200" y="1197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in Peel-Halt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1. </a:t>
            </a:r>
            <a:r>
              <a:rPr b="1" lang="fr-CA" sz="2800" spc="-1" strike="noStrike">
                <a:solidFill>
                  <a:srgbClr val="ffffff"/>
                </a:solidFill>
                <a:latin typeface="Arial"/>
              </a:rPr>
              <a:t>Vitia Buaba Z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vzam@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a:t>
            </a:r>
            <a:r>
              <a:rPr b="1" lang="fr-CA" sz="2800" spc="-1" strike="noStrike">
                <a:solidFill>
                  <a:srgbClr val="ffffff"/>
                </a:solidFill>
                <a:latin typeface="Arial"/>
              </a:rPr>
              <a:t>Mélika Fonta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mfontaine@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artnerships</a:t>
            </a:r>
            <a:endParaRPr b="0" lang="en-US" sz="4400" spc="-1" strike="noStrike">
              <a:solidFill>
                <a:srgbClr val="000000"/>
              </a:solidFill>
              <a:latin typeface="Arial"/>
            </a:endParaRPr>
          </a:p>
        </p:txBody>
      </p:sp>
      <p:sp>
        <p:nvSpPr>
          <p:cNvPr id="8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delivered b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Le 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urham: Le Conseil des organismes francophones de la région de Durham (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amilton- Niagara: Le Centre de santé communautaire Hamilton-Niagara</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nerships</a:t>
            </a:r>
            <a:endParaRPr b="0" lang="en-US" sz="3200" spc="-1" strike="noStrike">
              <a:solidFill>
                <a:srgbClr val="000000"/>
              </a:solidFill>
              <a:latin typeface="Arial"/>
            </a:endParaRPr>
          </a:p>
        </p:txBody>
      </p:sp>
      <p:sp>
        <p:nvSpPr>
          <p:cNvPr id="8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EPF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 Passerelle I.D.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DÉÉ Ontari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llège Boréa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ANAFRIC Théât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CH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FIFR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MERGING TRENDS and ISSUES</a:t>
            </a:r>
            <a:endParaRPr b="0" lang="en-US" sz="3200" spc="-1" strike="noStrike">
              <a:solidFill>
                <a:srgbClr val="000000"/>
              </a:solidFill>
              <a:latin typeface="Arial"/>
            </a:endParaRPr>
          </a:p>
        </p:txBody>
      </p:sp>
      <p:sp>
        <p:nvSpPr>
          <p:cNvPr id="9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ew waves of immigr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bour and employment issu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Youth activity programs and sup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migration concentrations and mixed school popul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imeline for support  - beyond the traditio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 conclusion</a:t>
            </a:r>
            <a:endParaRPr b="0" lang="en-US" sz="4400" spc="-1" strike="noStrike">
              <a:solidFill>
                <a:srgbClr val="000000"/>
              </a:solidFill>
              <a:latin typeface="Arial"/>
            </a:endParaRPr>
          </a:p>
        </p:txBody>
      </p:sp>
      <p:sp>
        <p:nvSpPr>
          <p:cNvPr id="93" name="PlaceHolder 2"/>
          <p:cNvSpPr>
            <a:spLocks noGrp="1"/>
          </p:cNvSpPr>
          <p:nvPr>
            <p:ph/>
          </p:nvPr>
        </p:nvSpPr>
        <p:spPr>
          <a:xfrm>
            <a:off x="394920" y="1413000"/>
            <a:ext cx="84978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DCCS’s goal is to foster a welcoming  environment and promote successful school integration, at all grade leve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is cannot be done alone.  Partners are essential in building an inclusive strateg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 student’s success is entirely related to the degree with which the entire family has integ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Arial"/>
              </a:rPr>
              <a:t>Thank you!</a:t>
            </a: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755640" y="692280"/>
            <a:ext cx="77724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Conseil scolaire de district catholique Centre-Sud (CSDCC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2204640"/>
            <a:ext cx="6400800" cy="3289320"/>
          </a:xfrm>
          <a:prstGeom prst="rect">
            <a:avLst/>
          </a:prstGeom>
          <a:noFill/>
          <a:ln w="0">
            <a:noFill/>
          </a:ln>
        </p:spPr>
        <p:txBody>
          <a:bodyPr anchor="t">
            <a:noAutofit/>
          </a:bodyPr>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SDCCS welcomes more than 15 000 students in its 44 elementary and 10 secondary schools over at territory ranging from the Niagara peninsula to Peterborough and from Lake Ontario to the Georgian Bay.</a:t>
            </a: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ission of the Conseil scolaire de district catholique Centre-Sud is to offer students a quality education in a francophone Catholic environment. Values such as respect for the individual, equity, the promotion of excellence and a spirit of belonging to the Franco-Ontarian community are the core of our mission in helping students to reach their full potential.</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The board headquarters are based Toronto. </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Documents and Settings\eguay\Bureau\Untitled-1.jpg"/>
          <p:cNvPicPr/>
          <p:nvPr/>
        </p:nvPicPr>
        <p:blipFill>
          <a:blip r:embed="rId1"/>
          <a:stretch/>
        </p:blipFill>
        <p:spPr>
          <a:xfrm>
            <a:off x="-36360" y="0"/>
            <a:ext cx="918036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CSDCCS INITIATIV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Given the high number of newcomers in its schools, CSDCCS has committed to implementing welcoming and integration programs as part of its 2011-2016 strategic plan.</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Arial"/>
              </a:rPr>
              <a:t>Integration model</a:t>
            </a:r>
            <a:br>
              <a:rPr sz="2400"/>
            </a:br>
            <a:r>
              <a:rPr b="1" lang="fr-CA" sz="2000" spc="-1" strike="noStrike">
                <a:solidFill>
                  <a:srgbClr val="ffffff"/>
                </a:solidFill>
                <a:latin typeface="Arial"/>
              </a:rPr>
              <a:t>includes inputs from both within and outside</a:t>
            </a:r>
            <a:br>
              <a:rPr sz="2000"/>
            </a:br>
            <a:r>
              <a:rPr b="1" lang="fr-CA" sz="2000" spc="-1" strike="noStrike">
                <a:solidFill>
                  <a:srgbClr val="ffffff"/>
                </a:solidFill>
                <a:latin typeface="Arial"/>
              </a:rPr>
              <a:t>the school board</a:t>
            </a:r>
            <a:endParaRPr b="0" lang="en-US" sz="2000" spc="-1" strike="noStrike">
              <a:solidFill>
                <a:srgbClr val="000000"/>
              </a:solidFill>
              <a:latin typeface="Arial"/>
            </a:endParaRPr>
          </a:p>
        </p:txBody>
      </p:sp>
      <p:pic>
        <p:nvPicPr>
          <p:cNvPr id="60" name="Picture 8" descr=""/>
          <p:cNvPicPr/>
          <p:nvPr/>
        </p:nvPicPr>
        <p:blipFill>
          <a:blip r:embed="rId2"/>
          <a:stretch/>
        </p:blipFill>
        <p:spPr>
          <a:xfrm>
            <a:off x="-168120" y="1341360"/>
            <a:ext cx="10356840" cy="4680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ternal strategi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ANA (</a:t>
            </a:r>
            <a:r>
              <a:rPr b="0" lang="fr-CA" sz="1800" spc="-1" strike="noStrike">
                <a:solidFill>
                  <a:srgbClr val="ffffff"/>
                </a:solidFill>
                <a:latin typeface="Arial"/>
              </a:rPr>
              <a:t>Programme d’appui aux nouveaux arrivant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A program which faciltates socio-cultural and academic integ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LF (</a:t>
            </a:r>
            <a:r>
              <a:rPr b="0" lang="fr-CA" sz="1800" spc="-1" strike="noStrike">
                <a:solidFill>
                  <a:srgbClr val="ffffff"/>
                </a:solidFill>
                <a:latin typeface="Arial"/>
              </a:rPr>
              <a:t>Actualisation linguistique du françai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ommunity liaison</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ommunity partnerships and liaison.</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6"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algn="ctr">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Toronto-Durham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Adolphine Mukamanz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amukamanzi@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75</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2. </a:t>
            </a:r>
            <a:r>
              <a:rPr b="0" lang="fr-CA" sz="2400" spc="-1" strike="noStrike">
                <a:solidFill>
                  <a:srgbClr val="ffffff"/>
                </a:solidFill>
                <a:latin typeface="Arial"/>
              </a:rPr>
              <a:t>Peel-Halton, Kitchener-Waterlo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Marie-Pierre Daous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mdaoust@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62</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3. Hamilton-Niagara</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Arial"/>
              </a:rPr>
              <a:t>Franklin Leuk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fleukam@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2d050"/>
                </a:solidFill>
                <a:latin typeface="Arial"/>
              </a:rPr>
              <a:t>1 800 274 3764, extension 71222</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4. York-Simcoe</a:t>
            </a:r>
            <a:r>
              <a:rPr b="0" lang="fr-CA" sz="2400" spc="-1" strike="noStrike">
                <a:solidFill>
                  <a:srgbClr val="ffffff"/>
                </a:solidFill>
                <a:latin typeface="Arial"/>
              </a:rPr>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Nadia Martin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nmartins@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inanced by the Ontario Ministry of Edu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arious activities and programs in support of newcomer integration initiatives, developped and delivered in partnership with community and not-for-profit organiz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ccessful examples include:  Information sessions for post-secondary education, Physical activity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mmer camps in Toronto and Hamilt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visits and orientation ope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ulinary celeb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Multicultural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9:08Z</dcterms:created>
  <dc:creator>CSDCCS</dc:creator>
  <dc:description/>
  <dc:language>en-US</dc:language>
  <cp:lastModifiedBy>Utilisateur Windows</cp:lastModifiedBy>
  <cp:lastPrinted>2013-09-25T19:00:49Z</cp:lastPrinted>
  <dcterms:modified xsi:type="dcterms:W3CDTF">2013-09-25T19:06:39Z</dcterms:modified>
  <cp:revision>95</cp:revision>
  <dc:subject/>
  <dc:title>Diapositive 1</dc:title>
</cp:coreProperties>
</file>